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19E-8340-4DDC-BCB0-7A183185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FCC-3AAE-4D60-9144-B6B28E48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147-33D1-4113-AF67-70B877BC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9A6-1562-4687-9C13-F50AF185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28A-BADC-4DD3-90E2-E879390F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C5B-21FF-4D91-A5CD-7830F91D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5A86-4569-4A7F-AF7F-D020371F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D518-4A51-4B41-A75E-7532B88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E70D-C746-49F4-816A-0C54AE2C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198-37C6-4BCD-95EB-B3BF6CBB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B6C9-BE01-4E63-81FC-2398DB9A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B3C-1123-41CF-AC9A-A7E59AE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F27B-64DB-46B8-A7F2-E24C801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0B0-0102-4DFC-A389-00B8DE4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BEE3-03E0-48C5-B192-D45FD1C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E920-C64F-4CD0-864A-1419C27F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4A36-8CC5-4F10-9C15-EE3EA506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7EC-56B6-4700-AFFB-E2D091C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198-0077-4FE5-AB6E-C1D7CFA6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5EC-7D6B-476D-BF99-197C7D22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E37-25A5-40A7-9F44-9C373EB3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1D8-8F98-422F-AC1F-C6C652C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0D7-A32F-4819-A49F-4C4CBAF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6AD-8F41-4EF0-A6F7-445AFFA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146D-1BF9-48B1-AC1E-0DFC31FD2B6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3DE-0239-4490-8763-547A119BF14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francis.edu/ba/ghkickul/stuwebs/bbios/biograph/vanderbi.htm" TargetMode="External"/><Relationship Id="rId2" Type="http://schemas.openxmlformats.org/officeDocument/2006/relationships/hyperlink" Target="http://www.stfrancis.edu/ba/ghkickul/stuwebs/bbios/biograph/vanderbi.htm" TargetMode="External"/><Relationship Id="rId3" Type="http://schemas.openxmlformats.org/officeDocument/2006/relationships/hyperlink" Target="http://www.voteview.com/vanderb2.htm" TargetMode="External"/><Relationship Id="rId4" Type="http://schemas.openxmlformats.org/officeDocument/2006/relationships/hyperlink" Target="http://www.voteview.com/vanderb2.htm" TargetMode="External"/><Relationship Id="rId5" Type="http://schemas.openxmlformats.org/officeDocument/2006/relationships/hyperlink" Target="http://www.u-s-history.com/pages/h845.html" TargetMode="External"/><Relationship Id="rId6" Type="http://schemas.openxmlformats.org/officeDocument/2006/relationships/hyperlink" Target="http://www.nnp.org/nni/Publications/DutchAmerican/vanderbiltc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46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191120" y="4282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Born: May 27, 1794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Died: January 4, 1877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ney He M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Used the money to help his railroad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Expanded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more vessels for people to travel o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5029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I don't care half so much about making money as I do about making my point, and coming out ahead.”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--Cornelius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Industry or Tr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Vessel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produced more which made this industry gro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was hardworking, competitive, and reliabl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23" name="229616" descr=""/>
          <p:cNvPicPr/>
          <p:nvPr/>
        </p:nvPicPr>
        <p:blipFill>
          <a:blip r:embed="rId1"/>
          <a:stretch/>
        </p:blipFill>
        <p:spPr>
          <a:xfrm>
            <a:off x="6173640" y="2214720"/>
            <a:ext cx="1903680" cy="2890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150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is Statu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086600" y="5105520"/>
            <a:ext cx="0" cy="3045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the United Stat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ransported more people throughout Eastern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onnected his the railroads he had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214360"/>
            <a:ext cx="8610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University Of St, Franci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stfrancis.edu/ba/ghkickul/stuwebs/bbios/biograph/vanderbi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1997, T. Pool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www.voteview.com/vanderb2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Business And Industry; Cornelius Vanderbilt, 2002-2005, Online Highway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http://www.u-s-history.com/pages/h845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Vanderbilt, Cornelius (1794-1877), The New Netherland Institut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http://www.nnp.org/nni/Publications/DutchAmerican/vanderbiltc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Business Ev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3 - Built a steam yacht, the North Star, to travel Europe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7 - Became a director of the RR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7 – December 11</a:t>
            </a:r>
            <a:r>
              <a:rPr b="0" lang="en-US" sz="2200" spc="-1" strike="noStrike" baseline="30000">
                <a:solidFill>
                  <a:srgbClr val="9900cc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 elected to president of the RR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Merged the New York Central, and the Hudson River railroad, gaining profits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8 – made a new and larger freight yard on the western side of Manhatt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By 1869, controlled RR stretching from New York to Chicago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Construction of the first terminal at Grand Central Station beg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Partnership with the New York and New Haven railroads emerged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ndustry and Trade Involve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74788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eam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eases vessels to the Union Governmen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 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ecoming president of the company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6" name="vaneng" descr=""/>
          <p:cNvPicPr/>
          <p:nvPr/>
        </p:nvPicPr>
        <p:blipFill>
          <a:blip r:embed="rId1"/>
          <a:stretch/>
        </p:blipFill>
        <p:spPr>
          <a:xfrm>
            <a:off x="4863960" y="3160800"/>
            <a:ext cx="390384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arget Marke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New Yorker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arted out for the upper class at $4 per person, but then was lowered to $1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Upped the cost of food on the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omfortable accommodation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3960" y="2214720"/>
            <a:ext cx="3903840" cy="2738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483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e Vanderbilt’s Summer Hom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781680" y="4952520"/>
            <a:ext cx="0" cy="3049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 - forced out of the vessel industry by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James Fisk and Jay Gould - Drew’s associates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rew and Vanderbilt argued over who would let their vessels travel on the Erie river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854680" y="2214720"/>
            <a:ext cx="2222640" cy="2585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86400" y="518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086600" y="4800600"/>
            <a:ext cx="0" cy="4572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rizont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spread out his railroad business to different places in the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connected some of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Horizont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money when he made his business larger and he expanded his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Vertic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Lowered the cost for people to get onto his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the prices of the food on the boats higher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1575000" cy="166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Vertic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utting the cost to board the boats made it easier for other people to travel on the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business by cutting the cos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I have been insane on the subject of moneymaking all my life.”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--Cornelius Vanderbilt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9:21:49Z</dcterms:created>
  <dc:creator>STUDENT</dc:creator>
  <dc:description/>
  <dc:language>en-US</dc:language>
  <cp:lastModifiedBy>STUDENT</cp:lastModifiedBy>
  <dcterms:modified xsi:type="dcterms:W3CDTF">2007-11-28T19:41:19Z</dcterms:modified>
  <cp:revision>6</cp:revision>
  <dc:subject/>
  <dc:title>PowerPoint Presentation</dc:title>
</cp:coreProperties>
</file>